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36F-D390-4216-8341-143D9D2B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53C-6433-4E43-9D0B-9918CB97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127-9A6A-44B1-B447-04960D4A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6D9-A6F3-4011-940D-46BEB1FE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9BA0-9CDA-46F8-BFA6-3F639C60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7994-DB60-4472-855E-7BB81126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23E3-5524-40C8-BD15-12633E8F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54A9-6BB3-45AE-833C-989E9188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65E3-C643-4205-B28F-72911D65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2DF2-8E94-4E81-838D-7769A1BD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ADB6-B239-4D7A-B848-16C6AF57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A9F-3287-44D4-8BF7-EC5A62C2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C7F8-0DB5-4FCA-9F17-68230E25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1F03-2996-4259-AA0A-3DF20DF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C462-203D-4A47-9B75-F416081A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A527-FAA6-4C95-BD8F-2C28390B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DDF1-EB23-431C-9458-7F00951E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CDB-9B73-4E09-AB10-77634822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443-A1EE-4360-A1F3-3003FBFE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147-D27A-4146-AAD8-0BEC1CE8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F77-C46E-4C23-93A0-8E8E7B01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331-7B01-4E67-9029-76FB92B6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7A7-3384-4BB3-AF98-238B24C2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C8B-5201-417F-B01F-A8DB237A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3352-E2A5-47AC-9968-EE31965DCE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F4FE-412A-4907-95F9-B8EDAC9A51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oom</a:t>
            </a:r>
            <a:r>
              <a:rPr b="0" lang="ja-JP" sz="3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 Taxono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st widely used classification system for analyzing educational questions in the cognitive doma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achers tend to ask primarily low-level questions and the students lose the opportunity to think critically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oom</a:t>
            </a:r>
            <a:r>
              <a:rPr b="0" lang="ja-JP" sz="36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 Taxono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nowledg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rehen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ppl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ynthes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valu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questions encourage students to recall information in the form that they learned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level ver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b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s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gniz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rehension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ncourage students to communicate an idea or phenomenon in a new or different for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rehension level verb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scriminat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eneraliz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dit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ives examp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stimat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f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plain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dic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tend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ummariz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-360"/>
            <a:ext cx="883944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ication lev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ourage students to apply ideas or skills to new situations or to use the knowledge they possess to solve a probl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ication level verbs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l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nstrat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t to 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lustr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0"/>
            <a:ext cx="8839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sis lev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s students to break down something, such as an idea, into its constituent parts or to uncover the unique characteristics of a 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g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sis level verb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eak Dow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if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rimin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egoriz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i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a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tic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thesis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ourage students to put the information back together in imaginative and/or original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thesis level verb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b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ran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organ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ion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 students to judge something by determining a standard and comparing it to the standa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ion level verb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rai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g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tiq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i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if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52280"/>
            <a:ext cx="89917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eful questioning techniqu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ait ti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hrasing ques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lanning ahea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acher response to questions (redirection, prompting, probing, praise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-360"/>
            <a:ext cx="883944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ait ti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fter asking a question, the teacher waits 3-5 seconds before accepting answ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ive students time to think before answering ques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ults in dramatic changes in student respo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767960"/>
            <a:ext cx="9144000" cy="486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Why are questions important?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Teachers ask as many as 300 to 400 questions a day.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Questions guide students</a:t>
            </a:r>
            <a:r>
              <a:rPr b="0" lang="ja-JP" sz="3600" spc="-1" strike="noStrike">
                <a:solidFill>
                  <a:srgbClr val="ffffcc"/>
                </a:solidFill>
                <a:latin typeface="Tahoma"/>
              </a:rPr>
              <a:t>’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thinking and determines how students will process materials presented to them.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Questions are the single, most influential teaching activity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76320" y="2676600"/>
            <a:ext cx="7632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s of Wait tim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ngth of student responses is increased 300 to 400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increase their use of evidence, or of logic based on evidence, to support their stat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ailure to respond to questions decr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cessity for disciplinary measures de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ariety of students participating in discussion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gain confidence in their ability to construct responses to question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rasing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questions are phrased impact the quality of response and the quality of thinking requi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 begin a question with a name. This engages only 1 student, all the others are 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 the hook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oid beginning each question the same way. 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can tell me….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ng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indicates that many teacher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on high-achieving students more than low achieving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on boys more than gir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on white students more than minority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on students in the front row more than the back r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 on students on one side of the 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unequal patterns of questioning, students have unequal opportunities to process material and transfer to long-term mem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lanning ques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 sure to write questions ahead of time to ensure higher level thinking questions are utilized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ponding to student answ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ce students have responded to a question, the teacher decides whether to praise, acknowledge, redirect, probe, prompt, correct, or ask a new questio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selectiv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limit further thinking when viewed as a terminal respo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ise must be meaning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y away from global praise- good jo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specific- I like the way you used your experience to justify your answer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l why it was a good jo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2286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ing the same divergent (open-ended) question to several students in a sequence of uninterrupted by the teacher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comme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teachers to get contributions from several stud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more people to participate in less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s class members to continue to process the ques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p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ing the student to the correct answer by a hint or a series of hi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ourage the students to take risks and make educated gues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s the students how to use various thought processes to find answers to questions and problem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pting is a difficult skill because teachers cannot plan the hint questions ahead of time, one has to think on one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f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ing is a means of getting students to elaborate on their initial responses to questions, particularly when the initial response to a question has been mini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ing the student for further clarification, explanation interpretation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s opportunity for more in-depth think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r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rect misinformation and prompt for correct inform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t repeat the wrong answer, only repeat back the correct answ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can stop listening after the incorrect answer is given. Make sure that the students are paying attention when the correct answer is give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ask question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cus Student atten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lp students interact with cont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eck for understand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valuate the effectiveness of the less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ase the level of think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52280"/>
            <a:ext cx="8991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ective practices related to questio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the questions that are to be asked during a les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rify the purpose of the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 balanced combination of low/high/convergent/divergent ques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fferent questions elicit different thought proces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ur types of ques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verg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verg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w-leve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gh-leve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verg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ave one correct answ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vergent questions are needed to help students sharpen their focus and attention to detail and accurac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is 3+4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re the days of the week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re the planets in our solar system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year did the US land on 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verg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pen-ended, more than one correct answ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vergent questions help students to delve into imagination and creativity while at the same time, build their confidenc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re some examples of amphibian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is your favorite book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nimals are mammal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w-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quires only mental recall to be answer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uilding blocks to higher-level think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student only has to remember something that he/she already know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is the order of the planets in our solar system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re three simple machin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igh-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student must do some kind of processing of information in order to answer the quest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processes include comparing, describing, inferring, hypothesizing, analyzing, and making judgments or evaluation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are your community to the communities of the colonist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do you think will happen to this paper clip when I drop it into the cup of water? Will it sink or flo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do you think life was like for the colonist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2:43:57Z</dcterms:created>
  <dc:creator> </dc:creator>
  <dc:description/>
  <dc:language>en-US</dc:language>
  <cp:lastModifiedBy>Karen Verkler</cp:lastModifiedBy>
  <dcterms:modified xsi:type="dcterms:W3CDTF">2014-09-30T20:54:52Z</dcterms:modified>
  <cp:revision>4</cp:revision>
  <dc:subject/>
  <dc:title>  Why are questions important? Teachers ask as many as 300 to 400 questions a day. Questions guide students’ thinking and determines how students will process materials presented to them. Questions are the single, most influential teaching activity. </dc:title>
</cp:coreProperties>
</file>